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F333-F7C5-4F69-8199-E8561F5A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E2B-B762-4355-86D0-18C46EDB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14B-C28A-484F-9968-4E8EEF05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4EA-0668-47FA-8866-D9871658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EA02-0B81-42F3-A3BD-EC20CF82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7C74-BD53-4A02-BF96-33A2135D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1B76-E019-4DC5-9927-CFA63EE7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25B6-DA59-43BB-A021-0B3A75E6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BFD0-11D5-43D7-AB90-3C2F5F56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CD59-4810-4D92-8CBE-7008E4F7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BF98-158F-45E8-A65C-8B194E1D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ACA-1F64-420E-A691-79ED05A2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BCED-2787-4C25-B16E-C17B4235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AA5C-EE60-4AF2-B909-A729ED1A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FE29-9A9D-4D6C-AF41-282BE506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C318-5354-455E-B8EF-D9F0A9D8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95CE-DFAB-4A22-843B-92AE956B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F6B4A-31C4-48F1-8D71-ED03160F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AF939-E5B5-43CA-9422-8DF10237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3333-780E-4C66-B565-A4F1897E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67569-A279-44F9-85CC-D61B6930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8F303-D323-4DD6-B753-517DD993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9EE-97D5-46F2-B469-E9F7AA7A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56B8-4109-4997-AADA-F51D312D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3C48C-C074-4CD4-A4B7-55069F09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433CA-56C6-483A-9314-390CD05A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695E1-B3C1-4A0A-8D4A-F21F22F4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4F407-8886-45C8-98B2-F00A2DD4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2AE7B-B81D-468F-9D61-F848C8C6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34CF5-6FF6-4636-AE05-436928A4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7D5-0B56-49CE-A82D-16F96EB1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F40-295B-4F23-9221-6356383C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0B6-B776-4893-BB17-4FF99089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33CC-E092-44DE-808F-FF01B209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77B-7EA3-4220-8507-60D8CE41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E3B-91AA-4540-A9CC-BBB32FED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businessblog.winweb.com/wp-content/uploads/2010/06/BK.jpg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hyperlink" Target="http://logos-plus.narod.ru/docs1.jpg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FF81-DA0C-4697-A9DD-FBF6CCACCA3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-main-pic" descr="Картинка 70 из 790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2912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7" descr="http://www.mamazone.pl/media/62521/d%C5%82ugi.jpg"/>
          <p:cNvPicPr/>
          <p:nvPr/>
        </p:nvPicPr>
        <p:blipFill>
          <a:blip r:embed="rId5"/>
          <a:srcRect l="0" t="0" r="0" b="7933"/>
          <a:stretch/>
        </p:blipFill>
        <p:spPr>
          <a:xfrm>
            <a:off x="4286160" y="785880"/>
            <a:ext cx="3000600" cy="4143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5" descr="Картинка 42 из 10215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15080" y="3143160"/>
            <a:ext cx="2286000" cy="339876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16"/>
          <p:cNvGrpSpPr/>
          <p:nvPr/>
        </p:nvGrpSpPr>
        <p:grpSpPr>
          <a:xfrm>
            <a:off x="7215120" y="142920"/>
            <a:ext cx="1714320" cy="713520"/>
            <a:chOff x="7215120" y="142920"/>
            <a:chExt cx="1714320" cy="713520"/>
          </a:xfrm>
        </p:grpSpPr>
        <p:pic>
          <p:nvPicPr>
            <p:cNvPr id="45" name="Text Box 14" descr=""/>
            <p:cNvPicPr/>
            <p:nvPr/>
          </p:nvPicPr>
          <p:blipFill>
            <a:blip r:embed="rId8"/>
            <a:stretch/>
          </p:blipFill>
          <p:spPr>
            <a:xfrm>
              <a:off x="7215120" y="425160"/>
              <a:ext cx="1714320" cy="4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AutoShape 15"/>
            <p:cNvSpPr/>
            <p:nvPr/>
          </p:nvSpPr>
          <p:spPr>
            <a:xfrm rot="5400000">
              <a:off x="7750440" y="-317520"/>
              <a:ext cx="441360" cy="136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5e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20"/>
          <p:cNvSpPr/>
          <p:nvPr/>
        </p:nvSpPr>
        <p:spPr>
          <a:xfrm>
            <a:off x="214200" y="3714840"/>
            <a:ext cx="392904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DCB7-EA0B-434D-BCE4-FB9A5D98CCFD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3"/>
          <p:cNvSpPr/>
          <p:nvPr/>
        </p:nvSpPr>
        <p:spPr>
          <a:xfrm>
            <a:off x="214200" y="14292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02a43"/>
                </a:solidFill>
                <a:latin typeface="Arial"/>
              </a:rPr>
              <a:t>Министерство образования Моск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f4064"/>
                </a:solidFill>
                <a:latin typeface="Arial"/>
              </a:rPr>
              <a:t>ГОУ Педагогическая акад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54F2-DCB6-41F2-AD37-15755A502CFC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684360" y="1484280"/>
            <a:ext cx="79200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94740"/>
                </a:solidFill>
                <a:latin typeface="Arial"/>
              </a:rPr>
              <a:t>О подготовке к экзамену по математике (ОГЭ, ГВЭ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 родители могут помочь своим де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5d7e"/>
                </a:solidFill>
                <a:latin typeface="Arial"/>
              </a:rPr>
              <a:t>Белай Елена Николае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5d7e"/>
                </a:solidFill>
                <a:latin typeface="Arial"/>
              </a:rPr>
              <a:t>доцент кафедры математики и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5d7e"/>
                </a:solidFill>
                <a:latin typeface="Arial"/>
              </a:rPr>
              <a:t>ГБОУ ИРО 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4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13600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56908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3" descr=""/>
          <p:cNvPicPr/>
          <p:nvPr/>
        </p:nvPicPr>
        <p:blipFill>
          <a:blip r:embed="rId2"/>
          <a:stretch/>
        </p:blipFill>
        <p:spPr>
          <a:xfrm>
            <a:off x="985680" y="1809720"/>
            <a:ext cx="6985080" cy="42483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1"/>
          <p:cNvSpPr/>
          <p:nvPr/>
        </p:nvSpPr>
        <p:spPr>
          <a:xfrm>
            <a:off x="1116000" y="1268280"/>
            <a:ext cx="7416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http://iro23.ru/institut/struktura/kafedry/kafedra-matematiki-i-informat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4" descr=""/>
          <p:cNvPicPr/>
          <p:nvPr/>
        </p:nvPicPr>
        <p:blipFill>
          <a:blip r:embed="rId2"/>
          <a:stretch/>
        </p:blipFill>
        <p:spPr>
          <a:xfrm>
            <a:off x="1116000" y="2149560"/>
            <a:ext cx="6854760" cy="397008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1"/>
          <p:cNvSpPr/>
          <p:nvPr/>
        </p:nvSpPr>
        <p:spPr>
          <a:xfrm>
            <a:off x="395280" y="1197000"/>
            <a:ext cx="777708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http://iro23.ru/podgotovka-k-attestacii-uchashchihsya/kraevye-diagnosticheskie-raboty/specifikacii-i-kodifik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"/>
          <p:cNvSpPr/>
          <p:nvPr/>
        </p:nvSpPr>
        <p:spPr>
          <a:xfrm>
            <a:off x="2627280" y="1219320"/>
            <a:ext cx="27115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ы заданий (№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вень 5-6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4" descr=""/>
          <p:cNvPicPr/>
          <p:nvPr/>
        </p:nvPicPr>
        <p:blipFill>
          <a:blip r:embed="rId2"/>
          <a:stretch/>
        </p:blipFill>
        <p:spPr>
          <a:xfrm>
            <a:off x="468360" y="1903320"/>
            <a:ext cx="8207280" cy="39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"/>
          <p:cNvSpPr/>
          <p:nvPr/>
        </p:nvSpPr>
        <p:spPr>
          <a:xfrm>
            <a:off x="2627280" y="1219320"/>
            <a:ext cx="29527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ы заданий (№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вень 5-6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5" descr=""/>
          <p:cNvPicPr/>
          <p:nvPr/>
        </p:nvPicPr>
        <p:blipFill>
          <a:blip r:embed="rId2"/>
          <a:stretch/>
        </p:blipFill>
        <p:spPr>
          <a:xfrm>
            <a:off x="108000" y="2349360"/>
            <a:ext cx="885672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3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8556480" cy="431784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1"/>
          <p:cNvSpPr/>
          <p:nvPr/>
        </p:nvSpPr>
        <p:spPr>
          <a:xfrm>
            <a:off x="2627280" y="1219320"/>
            <a:ext cx="27115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ы заданий (№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вень 5-6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2627280" y="1219320"/>
            <a:ext cx="27115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ы заданий (№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вень 5-6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"/>
          <p:cNvPicPr/>
          <p:nvPr/>
        </p:nvPicPr>
        <p:blipFill>
          <a:blip r:embed="rId2"/>
          <a:stretch/>
        </p:blipFill>
        <p:spPr>
          <a:xfrm>
            <a:off x="250920" y="1903320"/>
            <a:ext cx="8569080" cy="38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900000" y="2852640"/>
            <a:ext cx="770436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Calibri"/>
              </a:rPr>
              <a:t>Желаем успехов на экзаменах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08000" y="1484280"/>
            <a:ext cx="87850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руктура КИМ ОГЭ-2018 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о 26 зада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 с краткой записью от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заданий с развернутым реш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экзамена 3 ч 55 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108000" y="1484280"/>
            <a:ext cx="878508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вод баллов в отм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3" descr=""/>
          <p:cNvPicPr/>
          <p:nvPr/>
        </p:nvPicPr>
        <p:blipFill>
          <a:blip r:embed="rId2"/>
          <a:stretch/>
        </p:blipFill>
        <p:spPr>
          <a:xfrm>
            <a:off x="520560" y="2401920"/>
            <a:ext cx="8102880" cy="20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108000" y="1484280"/>
            <a:ext cx="878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руктура КИМ ГВЭ-2018 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экзамена 3 ч 55 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95280" y="2276640"/>
          <a:ext cx="7575480" cy="2806560"/>
        </p:xfrm>
        <a:graphic>
          <a:graphicData uri="http://schemas.openxmlformats.org/drawingml/2006/table">
            <a:tbl>
              <a:tblPr/>
              <a:tblGrid>
                <a:gridCol w="3787920"/>
                <a:gridCol w="378756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кировки А и 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кировка 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28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12 заданий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с краткой записью от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задания с развернутым реш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10 зад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краткой записью отв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108000" y="1197000"/>
            <a:ext cx="87850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вод баллов в отметки «А» и «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вод баллов в отметки «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5280" y="1916280"/>
          <a:ext cx="7848720" cy="151272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70320"/>
              </a:tblGrid>
              <a:tr h="59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ме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4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95280" y="4437000"/>
          <a:ext cx="7848720" cy="134640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70320"/>
              </a:tblGrid>
              <a:tr h="627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ме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4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"/>
          <p:cNvSpPr/>
          <p:nvPr/>
        </p:nvSpPr>
        <p:spPr>
          <a:xfrm>
            <a:off x="250920" y="1557360"/>
            <a:ext cx="871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ыполнении заданий разрешается пользоваться линейкой и справочными материалами, которые выдаются вместе с раб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лькуля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рандаш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допускае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писи в черновике не проверяю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"/>
          <p:cNvSpPr/>
          <p:nvPr/>
        </p:nvSpPr>
        <p:spPr>
          <a:xfrm>
            <a:off x="324000" y="2136600"/>
            <a:ext cx="871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жим дня – правильное сочетание труда 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иторинг успеваемости (электронный дневник, проверка выполнения домашних заданий, контакт с учителем математи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тическое решение заданий с помощью Интернет-ресурсов с ограничением по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4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136000" cy="47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36:55Z</dcterms:created>
  <dc:creator>Неля</dc:creator>
  <dc:description/>
  <dc:language>en-US</dc:language>
  <cp:lastModifiedBy>Людмила Н. Терновая</cp:lastModifiedBy>
  <dcterms:modified xsi:type="dcterms:W3CDTF">2018-02-13T08:37:50Z</dcterms:modified>
  <cp:revision>306</cp:revision>
  <dc:subject/>
  <dc:title>ThemeGallery PowerTemplate</dc:title>
</cp:coreProperties>
</file>